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F39-4C8E-423B-A47F-2B125102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3A3-3607-49AE-8EA2-607B683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E28-458B-47C9-93CA-0E0805FE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8B5-3BEC-4469-BC78-D4610A24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C3E-1A67-462A-8EA5-470A0995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4F0-8100-4E5B-B0F7-EAFBB3E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8342-9EA4-4D66-9300-A16B068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919D-D857-4167-9EA4-7603270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F93-FAED-4118-8100-106F1A7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E9EE-0D42-4990-9491-9D9ABF3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01C5-DDAA-4BA0-9CEB-50CAAD5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746-AEB6-43DC-ABF7-81896C2A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84CB-EB2D-4370-8DA2-63F6E32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53B7-37F1-4777-858D-67B6AD7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811-3672-48AB-BFEB-BBA96A0F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725E-99CB-4BA9-A165-D7B5DC71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47D-BA69-4611-B371-38D3E855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C8A5-E4FB-468E-B2AB-55911C7D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72D2-BA14-405D-960D-3D7B8203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A9DB-C71A-4C99-8689-246E8F09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FDB4-77AD-4258-B68C-67FB55E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2A05-DD56-4336-891A-A6759EF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39E-5381-463E-8072-4BDA374A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354D-6F5C-4C98-AF75-FB3C020C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4648-5E0A-4EEB-A280-28AF68C8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0747-B844-4847-9D9F-EAB3464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E856-E243-4F1F-A60D-4BF2F82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470E-8EA8-4391-AC31-F1D7468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EDCC-ADA6-4B53-B761-04E1AB28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9DFE-5EEF-4846-BB47-C2A377B9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EC7-C667-4552-ADBA-8B000D39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B20-68F0-461C-9166-345302D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E64-C0AC-4F15-B4F7-9EE356D5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021-FD21-47FB-B081-A907355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DDB-E9DA-4871-BACC-CE45BCC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47D-01FA-4842-9387-42A11E6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71B7C5-FEE5-4ADB-93F5-4F96E0BE7DD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46640F-ACEE-46B6-914F-65FB0CAAFE1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6233C0-CD26-4ED0-A5B8-1DDBBBDEE86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Design Skill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50720" y="48769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3430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2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8511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0600" y="0"/>
            <a:ext cx="6186600" cy="685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3124080" y="4648320"/>
            <a:ext cx="60195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s: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is a description of a system’s behavior as it responds to a request that originates from outside of that system (Usually user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ther words, a use case describes "who" can do "what" with the system in ques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ML (Unified Modeling Language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diagram in the Unified Modeling Language (UML) is a type of behavioral diagram defined by and created from a Use-case analysi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s purpose is to present a graphical overview of the functionality provided by a system in terms of actors, their goals (represented as use case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a Use-Case Diagram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-Ca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may represent a role played 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us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nothe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piece of hardwar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s may be both at input and output ends of a use c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205240" cy="16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cribes all the services required or performed by the acto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610000" y="2753280"/>
            <a:ext cx="392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 Nam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se Case Nam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Written in a o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e Nam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2971800" y="3733920"/>
            <a:ext cx="2514240" cy="837720"/>
          </a:xfrm>
          <a:prstGeom prst="ellipse">
            <a:avLst/>
          </a:prstGeom>
          <a:gradFill rotWithShape="0">
            <a:gsLst>
              <a:gs pos="0">
                <a:srgbClr val="a49451"/>
              </a:gs>
              <a:gs pos="100000">
                <a:srgbClr val="d5c489"/>
              </a:gs>
            </a:gsLst>
            <a:lin ang="8346000"/>
          </a:gradFill>
          <a:ln>
            <a:solidFill>
              <a:srgbClr val="998846"/>
            </a:solidFill>
            <a:round/>
          </a:ln>
          <a:effectLst>
            <a:outerShdw blurRad="190440" dir="2700000" dist="228593" rotWithShape="0" sy="9000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200400" y="3930120"/>
            <a:ext cx="205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giste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1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200240" y="2394000"/>
            <a:ext cx="6743520" cy="23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38</TotalTime>
  <Application>LibreOffice/7.4.7.2$Linux_X86_64 LibreOffice_project/40$Build-2</Application>
  <AppVersion>15.0000</AppVersion>
  <Words>230</Words>
  <Paragraphs>3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58:53Z</dcterms:created>
  <dc:creator>Shreya Rawal</dc:creator>
  <dc:description/>
  <dc:language>en-US</dc:language>
  <cp:lastModifiedBy>Shreya Rawal</cp:lastModifiedBy>
  <dcterms:modified xsi:type="dcterms:W3CDTF">2009-03-30T16:37:04Z</dcterms:modified>
  <cp:revision>10</cp:revision>
  <dc:subject/>
  <dc:title>Design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